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6577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050-2F18-4783-AAE4-F246FCA3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BB3-0A26-47D4-A038-729AA07F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A2E-8BCB-402C-A7FA-47108622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AF1-34BA-4F16-82C8-7DF88C67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91C-379D-4DF1-97B7-317C1C8B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BAC-2B95-4B38-A28C-2BD8B532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615-1650-48CD-8E5D-31A2802E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FE0-A955-439F-9DD6-E178A955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5D8-B369-4CA0-BD67-4257C3EA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014-CBA7-4381-B595-CB486AFD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95D-2624-44CF-BCEE-9CD42828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44E-5F83-4667-9D99-78B7A3A0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BFA7-77FB-46F0-BA90-33E964D45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476280"/>
          <a:ext cx="4249800" cy="5924520"/>
        </p:xfrm>
        <a:graphic>
          <a:graphicData uri="http://schemas.openxmlformats.org/drawingml/2006/table">
            <a:tbl>
              <a:tblPr/>
              <a:tblGrid>
                <a:gridCol w="936360"/>
                <a:gridCol w="1368720"/>
                <a:gridCol w="194472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g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p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nt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e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ri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ri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o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jo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mpá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imp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od loo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ua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ua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a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ntipá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ntip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l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4932360" y="549360"/>
            <a:ext cx="39607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Es _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/ She is 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¿Es ____________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he/ she _____________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No es ___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/She isn’t ___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ero    =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y         =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43Z</dcterms:created>
  <dc:creator>Helen</dc:creator>
  <dc:description/>
  <dc:language>en-US</dc:language>
  <cp:lastModifiedBy>Katy Oliver</cp:lastModifiedBy>
  <dcterms:modified xsi:type="dcterms:W3CDTF">2011-07-06T13:25:22Z</dcterms:modified>
  <cp:revision>3</cp:revision>
  <dc:subject/>
  <dc:title>Slide 1</dc:title>
</cp:coreProperties>
</file>